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BFF-0173-455D-A5D7-D4081555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923-A4F5-4C53-AD21-2D50346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6BDF1-3D26-4724-9310-5109CBAC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5CEB6-6D91-4993-B8C1-1F233FB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8680A-8A5A-4D9F-8261-EF07399C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46B5F-0F20-4BF3-B2C7-0BB236B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EDFD4-27A4-48F9-AC2B-735007E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3449-506C-432B-A576-93BFAEA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208FC-091D-44D4-92AB-3FE5E5D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FD545-2300-4E4D-A4D5-0D85B20E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F8F6-7819-40C9-9EBB-5C7D83D9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595EB-A5E4-48B4-B53A-A536E4C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756-EB47-4AC1-B514-F70A82E7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B8967-225A-4045-917D-F430DEF8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E92F9-FC85-43B4-85B8-6BEAD17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4822D-F1AB-4FF3-B5B3-D456767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EB664-2E3B-4008-B9BE-7217FB8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59A8B-B566-4FD4-9641-FCF6BF3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10727-0DB5-4543-BCAF-E6D7493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BD627-ADBE-4F08-A9CA-91B1966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5BAD-50CB-4179-BB15-DAD0080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1596-E6F0-4F9C-80E9-A53A4B46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97DAC-7825-4D6C-8055-393E87FF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F03-B010-4FBD-93B7-D4ED56D9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52F9C-A6EC-4096-914F-2569CEC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0A104-3BA8-484B-B3E5-995047E6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1EEFA-7BF9-4AC1-B3DD-9D65BB3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A5F0-D470-4554-94C7-F8CD2A0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156C9-6C4F-47FD-9A52-50FA2F7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B2D17-F5E3-4B2A-938B-D43A61C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12B7E-1EC8-4B0F-A3DF-3FDEBAA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5F0D8-23F9-4BCE-ABE7-4A9AAA4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C797-1906-4753-BEA0-1E33BDD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57123-F70D-4D60-B375-67EAFFD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544-2554-421F-BCF7-8D6F1897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3BA37-8AAC-468D-888C-9A2D9AFA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75BDF-768A-4B57-97F6-44BE0E3B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85AC1-72B8-4BB1-B3B1-1F424258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10A22-403F-4C7F-980C-CB72F06A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50EEF-041A-445F-9730-1F2C6B77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5801-7B04-488F-854A-8FACBC9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2F579-1082-40CD-A360-8EE4F95A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E7711-D8A0-4BAC-9DC4-AE220822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102B9-D51D-46B0-BFFB-DD3618D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6AD89-CF25-40C0-B500-EA61940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80BE-D805-4B44-A4DF-D485EBD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AE578-0A8F-40E8-A7E7-2D32E83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3A81A-7DD5-43B1-A661-1FE5FC3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AE3CE-8570-4763-8024-889AD8E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E66E6-2476-4C1A-B27D-8DF91C51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BC485-FF59-4ED7-A715-7B74EA84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B3E35-2EC8-40D0-879C-67F05914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A993E-792A-4342-AE92-647DCA4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D6A96-9DE7-4BEB-8ECC-77D4AF6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03D3B-A95C-4465-9C3E-0B86D24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D4479-48C4-439A-8EE8-29FE4F5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34E6-92C3-4337-BE57-1270F89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10889-8A17-46D7-80A6-5368277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13D7B-58A5-4A21-A396-CD7F9EE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3B422-309D-48E5-A4A1-07CEE5E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96949-9E08-46E4-991D-5F1F124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215ED-6855-4558-ACF3-8F23C1B3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A8339-EBF5-4A50-8440-A7C48DC2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D0732-20BF-4D3E-914E-1CEAE0DC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81F5-9F66-4E40-BF02-D6AB29B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30B4-2EF1-48C2-8E8F-B7568987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1710-3C84-47F8-8286-53D4A6D0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D15C-8DF8-41DA-98CA-DBFA6F4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EBD-340E-446E-82E5-BC0BE8A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381-E03F-4E02-9E01-81862C3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5238-37DC-4CC5-964B-C9E1B61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1BF-03F4-4F06-BB00-B62287C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4D3-4D63-4AED-9B04-AD7123E6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8D5-5BC4-4A77-ACFA-1F0FEC9C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6062-96F0-43DE-867E-60A0DD32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8873-ED9D-4441-BCCB-1B9701D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D197-9BC8-402B-8B4C-2C985A4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22E1-9171-4E1A-9E97-3E3F62CD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F4B2-0ECF-4A95-856B-875691F3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B0A-1E4C-4B1B-9188-80EA7B8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D16E-5E13-4FC0-9760-8B52C19F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F4DC-0044-4759-808E-E16BDCC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5D53-3FE6-481B-82EC-B69E15B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F3BE-0147-493F-851B-7D41C93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5F71-F70A-4B20-B3A1-5F399AF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F4A6-4BFF-474B-ACAC-FED43024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C103-18E0-4E0C-BC5B-FC248852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F6AE-4C75-40A0-8907-0C55A519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0D11-5723-43E9-983E-37A1862C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93B8-5901-4BD6-B409-4518BDB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999-5536-49A7-B981-FD0B363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67F3-24A2-4C24-867D-EB4A2B49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9CCE-5FFE-4444-AFD7-0AD8C255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68D4-8290-4EB7-81EE-BD70B0FC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0E8B-B79C-41B3-9ED5-207D6C2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BA54-37F8-49E7-84F4-8936A36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8133-EC84-40FF-9EC3-99C2A1F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CDB67-A750-4411-8F64-5E163189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7F98-ED1F-40EC-8F0E-5744F157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160A-E968-400A-8DC3-605D6CA9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E789-9DB2-4779-82AF-21EBF161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886-A175-4004-BAEC-472F7553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43C5-F459-4B5E-80C6-11DE947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98A0-7039-46AC-9E56-3AC79F4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49AE-13B5-4390-9713-9B7183DB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AD19-273A-44C3-B9DD-DB6BBEE1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16E0-3AFE-4EBC-8DAF-E6561C60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64CD-4649-46E9-8E8B-09BC259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EAED-FEED-4B12-BDFF-28EB7BE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49B5-41C6-4106-A1EA-BB92DC1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2914-E362-4C76-83B0-B6E3180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6122-6E5B-429C-B603-BA53E49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7D1-24AF-4D30-8D7D-0DFB2A6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0B0D-07B1-4DAF-B8D2-E662B27F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0F38-F7EB-4200-98A6-018553A4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4F2F-1750-4983-8BE8-045E12A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F996-B8EA-4400-8598-C1147C0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0F86-2339-41D4-9C7A-49C499CA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B5CB-65A6-40AF-B171-FB17690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7EF3-6661-4F2A-B318-5B691AD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9074-2DC5-494C-BD66-E609FAC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83D1-8E17-42EC-9F24-53184D3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3F003-6F3F-456B-9502-2D1EFBD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022-E30B-43B7-A8EC-A9B88A2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F90E-8D48-43DF-AEF2-5220029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1957-E8F2-4603-A301-EF0CCCD2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C532-E9EC-4B3D-BBD2-8B0B2097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88FF-EACD-4823-A0ED-A3BEBD86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08B0-07ED-4AD2-B5F7-D8E2E2A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D5F3-BC48-4B15-89F6-C28ED5A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AB73C-06F8-43E7-8FDC-F003C37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3396-03AE-4A54-9663-1F769FD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879B-1889-4EAB-A900-A4FB2D0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AFB3-B7B3-492D-885B-417B75C9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4CA-4692-479B-805B-71B2F70A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064F3-7E57-4206-AF5D-1BBBD53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0E46-6024-45AB-ABF5-17DD38B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592F-FEB5-45FC-8081-9C95092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1DBC9-AEC4-40EE-999A-D4793678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39F9C-77D8-43CA-8BF3-244AA677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A5AA-7438-408C-A1A2-D21DCE80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232B-F664-44F3-8606-F249B21A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B306-5B63-4167-A430-5E18B9B2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6197-CEFF-46A5-BC07-4A9716D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8289-B5F0-49A0-A78A-61B0255F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19D-A324-43A5-8D93-72AB77A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6DC4A-E44E-40FC-BF96-B062C1B2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FFDBC-6B3A-407D-95BF-933DBDE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A661-5AF5-4295-82C1-29C6FFC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546C9-C139-4241-82B7-C569DE0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35AA-6CDC-4F17-9B05-7F8ECA9E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03B7-BAF5-4960-8981-57E47F8C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CA01-5AC0-499E-A374-90A1FB8F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F8A3A-C80F-4E4B-BC54-837E1646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ED63A-E51F-4B87-ABFC-648394DD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8F2D5-53F9-4255-815E-20549EA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025-5D8F-42BB-A265-F527E58F0E5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7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7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8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8B24-F670-449C-9E61-8E8967B63EB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6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6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6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6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8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8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63B-C596-4EDD-87CA-D7FE5ADB981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0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D0F-7849-4167-B0D8-A6367648346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6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D32-D722-44BC-9A03-F9AD728D16B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590B-96C4-4FAE-9F70-ECB6319E21F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E34-6E54-42C9-AB49-9D93C60D7CB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C1C-AC01-4160-8328-24CA83E8B44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ED60-BEA5-46B8-8E23-6B33C6EB892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784-42A6-45CE-B457-9C67A1793E9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CC0-6A92-4593-83BB-16413263A87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277-118D-40C6-8C62-7E5DAFE188C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6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7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7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7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7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9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1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32B5-9A03-4C3C-9597-E8D51923A58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b.fbcc.bia.edu/FortBerthold/images/ThreeTribes/Spotted_Bull_Mandan.jp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ontent.answers.com/main/content/wp/en/thumb/9/94/180px-Mandan_girls_gathering_berries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answers.com/topic/bodmer-bison-dance-jpg-1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swers.com/topic/bodmer-bison-dance-jpg-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atlin-mandan-village-jpg-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atlin-chief-four-bears-jpg-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memory.loc.gov/cgi-bin/query/S?pp/ils:@FILREQ(@field(SUBJ+@band(Crow&apos;s+Heart+))+@FIELD(COLLID+ecur))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EPARING </a:t>
            </a:r>
            <a:r>
              <a:rPr b="0" lang="en-US" sz="2000" spc="-1" strike="noStrike">
                <a:solidFill>
                  <a:srgbClr val="000000"/>
                </a:solidFill>
                <a:latin typeface="Blackoak Std"/>
              </a:rPr>
              <a:t>Lewis and Clark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dobe Garamond Pro Bold"/>
              </a:rPr>
              <a:t>A Creative Story and Image Slide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Garamond Pro Bold"/>
              </a:rPr>
              <a:t>By Christine E. Far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1" name="WordArt 7"/>
          <p:cNvSpPr txBox="1"/>
          <p:nvPr/>
        </p:nvSpPr>
        <p:spPr>
          <a:xfrm rot="21436200">
            <a:off x="457200" y="114300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252" name="WordArt 8"/>
          <p:cNvSpPr txBox="1"/>
          <p:nvPr/>
        </p:nvSpPr>
        <p:spPr>
          <a:xfrm rot="307800">
            <a:off x="380520" y="525744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</p:spTree>
  </p:cSld>
  <p:transition spd="slow" advTm="2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18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618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729"/>
                </a:solidFill>
                <a:latin typeface="Arial"/>
              </a:rPr>
              <a:t>A Mandan woman</a:t>
            </a:r>
            <a:endParaRPr b="0" lang="en-US" sz="1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5" descr="1491286923_f76774114f"/>
          <p:cNvPicPr/>
          <p:nvPr/>
        </p:nvPicPr>
        <p:blipFill>
          <a:blip r:embed="rId1"/>
          <a:stretch/>
        </p:blipFill>
        <p:spPr>
          <a:xfrm>
            <a:off x="3276720" y="457200"/>
            <a:ext cx="4722840" cy="6400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5" descr="ew_ready_for_okipe_buffalo_dance_mandan_curtis_a2zcds"/>
          <p:cNvPicPr/>
          <p:nvPr/>
        </p:nvPicPr>
        <p:blipFill>
          <a:blip r:embed="rId1"/>
          <a:stretch/>
        </p:blipFill>
        <p:spPr>
          <a:xfrm>
            <a:off x="1523880" y="-380880"/>
            <a:ext cx="4972320" cy="75722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Buffalo=Primary Food Sourc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Picture 7" descr="buffalo2"/>
          <p:cNvPicPr/>
          <p:nvPr/>
        </p:nvPicPr>
        <p:blipFill>
          <a:blip r:embed="rId1"/>
          <a:stretch/>
        </p:blipFill>
        <p:spPr>
          <a:xfrm>
            <a:off x="0" y="1371600"/>
            <a:ext cx="7620120" cy="50180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6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4d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Buffalo Dancer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Picture 5" descr="Leader-of-Mandan-Buffalo-Bull-Society-Print-C10034011"/>
          <p:cNvPicPr/>
          <p:nvPr/>
        </p:nvPicPr>
        <p:blipFill>
          <a:blip r:embed="rId1"/>
          <a:stretch/>
        </p:blipFill>
        <p:spPr>
          <a:xfrm>
            <a:off x="0" y="1981080"/>
            <a:ext cx="2624040" cy="4057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6" descr="Leader-of-Mandan-Buffalo-Bull-Society-Print-C10034011"/>
          <p:cNvPicPr/>
          <p:nvPr/>
        </p:nvPicPr>
        <p:blipFill>
          <a:blip r:embed="rId2"/>
          <a:stretch/>
        </p:blipFill>
        <p:spPr>
          <a:xfrm>
            <a:off x="2590920" y="1981080"/>
            <a:ext cx="2624040" cy="40579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7" descr="Leader-of-Mandan-Buffalo-Bull-Society-Print-C10034011"/>
          <p:cNvPicPr/>
          <p:nvPr/>
        </p:nvPicPr>
        <p:blipFill>
          <a:blip r:embed="rId3"/>
          <a:stretch/>
        </p:blipFill>
        <p:spPr>
          <a:xfrm>
            <a:off x="5181480" y="1981080"/>
            <a:ext cx="2624400" cy="405792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5" descr="111_Mandan_buffalo_dancer"/>
          <p:cNvPicPr/>
          <p:nvPr/>
        </p:nvPicPr>
        <p:blipFill>
          <a:blip r:embed="rId1"/>
          <a:stretch/>
        </p:blipFill>
        <p:spPr>
          <a:xfrm>
            <a:off x="1905120" y="304920"/>
            <a:ext cx="4360680" cy="617220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Picture 5" descr="bufdance"/>
          <p:cNvPicPr/>
          <p:nvPr/>
        </p:nvPicPr>
        <p:blipFill>
          <a:blip r:embed="rId1"/>
          <a:stretch/>
        </p:blipFill>
        <p:spPr>
          <a:xfrm>
            <a:off x="838080" y="1676520"/>
            <a:ext cx="6172200" cy="419580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 very Big Buffalo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7" descr="buffalo-bison_304"/>
          <p:cNvPicPr/>
          <p:nvPr/>
        </p:nvPicPr>
        <p:blipFill>
          <a:blip r:embed="rId1"/>
          <a:stretch/>
        </p:blipFill>
        <p:spPr>
          <a:xfrm>
            <a:off x="304920" y="1793880"/>
            <a:ext cx="7619760" cy="506412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http://lib.fbcc.bia.edu/FortBerthold/images/ThreeTribes/Spotted_Bull_Mand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4"/>
              </a:rPr>
              <a:t>http://content.answers.com/main/content/wp/en/thumb/9/94/180px-Mandan_girls_gathering_berr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http://www.answers.com/topic/bodmer-bison-dance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nswers.com/topic/catlin-mandan-village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topic/catlin-chief-four-bears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mory.loc.gov/cgi-bin/query/S?pp/ils:@FILREQ(@field(SUBJ+@band(Crow's+Heart+))+@FIELD(COLLID+ecu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nada-photos.com/data/media/4/buffalo-bison_3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tgfp.com/buffal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mory.loc.gov/cgi-bin/query/S?pp/ils:@FILREQ(@field(SUBJ+@band(Crow's+Heart+))+@FIELD(COLLID+ecu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01_Spirit_Flyer_Fretwell_Flutes.mp3" descr=""/>
          <p:cNvPicPr/>
          <p:nvPr/>
        </p:nvPicPr>
        <p:blipFill>
          <a:blip r:embed="rId1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618" fill="hold"/>
                                        <p:tgtEl>
                                          <p:spTgt spid="1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9d943f"/>
                </a:solidFill>
                <a:latin typeface="GungsuhChe"/>
                <a:ea typeface="GungsuhChe"/>
              </a:rPr>
              <a:t>Thanks for Watching and Listening!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9" name="WordArt 7"/>
          <p:cNvSpPr txBox="1"/>
          <p:nvPr/>
        </p:nvSpPr>
        <p:spPr>
          <a:xfrm rot="21436200">
            <a:off x="466560" y="5581800"/>
            <a:ext cx="7191720" cy="59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310" name="WordArt 8"/>
          <p:cNvSpPr txBox="1"/>
          <p:nvPr/>
        </p:nvSpPr>
        <p:spPr>
          <a:xfrm rot="307800">
            <a:off x="393480" y="62496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</p:spTree>
  </p:cSld>
  <p:transition spd="slow" advTm="20000"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0618" fill="hold"/>
                                        <p:tgtEl>
                                          <p:spTgt spid="1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618"/>
                            </p:stCondLst>
                            <p:childTnLst>
                              <p:par>
                                <p:cTn id="2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7" dur="2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6670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ESSTIXFiftee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ESSTIXFifteen"/>
              </a:rPr>
              <a:t>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4" name="WordArt 8"/>
          <p:cNvSpPr txBox="1"/>
          <p:nvPr/>
        </p:nvSpPr>
        <p:spPr>
          <a:xfrm>
            <a:off x="380880" y="594360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  <p:sp>
        <p:nvSpPr>
          <p:cNvPr id="1315" name="WordArt 9"/>
          <p:cNvSpPr txBox="1"/>
          <p:nvPr/>
        </p:nvSpPr>
        <p:spPr>
          <a:xfrm rot="400800">
            <a:off x="304920" y="152388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316" name="Ink 8"/>
          <p:cNvSpPr/>
          <p:nvPr/>
        </p:nvSpPr>
        <p:spPr>
          <a:xfrm>
            <a:off x="793800" y="4365720"/>
            <a:ext cx="5178240" cy="1143000"/>
          </a:xfrm>
          <a:custGeom>
            <a:avLst/>
            <a:gdLst/>
            <a:ahLst/>
            <a:rect l="l" t="t" r="r" b="b"/>
            <a:pathLst>
              <a:path w="14387" h="3176">
                <a:moveTo>
                  <a:pt x="3492" y="12621"/>
                </a:moveTo>
                <a:cubicBezTo>
                  <a:pt x="3466" y="12675"/>
                  <a:pt x="3433" y="12704"/>
                  <a:pt x="3413" y="12760"/>
                </a:cubicBezTo>
                <a:cubicBezTo>
                  <a:pt x="3396" y="12806"/>
                  <a:pt x="3386" y="12853"/>
                  <a:pt x="3373" y="12898"/>
                </a:cubicBezTo>
                <a:cubicBezTo>
                  <a:pt x="3370" y="12910"/>
                  <a:pt x="3359" y="12991"/>
                  <a:pt x="3354" y="12998"/>
                </a:cubicBezTo>
                <a:cubicBezTo>
                  <a:pt x="3335" y="13024"/>
                  <a:pt x="3368" y="13054"/>
                  <a:pt x="3354" y="12998"/>
                </a:cubicBezTo>
                <a:cubicBezTo>
                  <a:pt x="3331" y="12905"/>
                  <a:pt x="3360" y="12829"/>
                  <a:pt x="3314" y="12760"/>
                </a:cubicBezTo>
                <a:cubicBezTo>
                  <a:pt x="3254" y="12670"/>
                  <a:pt x="3309" y="12750"/>
                  <a:pt x="3235" y="12700"/>
                </a:cubicBezTo>
                <a:cubicBezTo>
                  <a:pt x="3220" y="12690"/>
                  <a:pt x="3210" y="12669"/>
                  <a:pt x="3175" y="12660"/>
                </a:cubicBezTo>
                <a:cubicBezTo>
                  <a:pt x="3066" y="12634"/>
                  <a:pt x="2956" y="12670"/>
                  <a:pt x="2858" y="12700"/>
                </a:cubicBezTo>
                <a:cubicBezTo>
                  <a:pt x="2792" y="12720"/>
                  <a:pt x="2730" y="12761"/>
                  <a:pt x="2679" y="12799"/>
                </a:cubicBezTo>
                <a:cubicBezTo>
                  <a:pt x="2635" y="12831"/>
                  <a:pt x="2635" y="12842"/>
                  <a:pt x="2600" y="12879"/>
                </a:cubicBezTo>
                <a:cubicBezTo>
                  <a:pt x="2573" y="12907"/>
                  <a:pt x="2536" y="12949"/>
                  <a:pt x="2500" y="12998"/>
                </a:cubicBezTo>
                <a:cubicBezTo>
                  <a:pt x="2439" y="13081"/>
                  <a:pt x="2388" y="13159"/>
                  <a:pt x="2342" y="13256"/>
                </a:cubicBezTo>
                <a:cubicBezTo>
                  <a:pt x="2292" y="13361"/>
                  <a:pt x="2222" y="13515"/>
                  <a:pt x="2203" y="13633"/>
                </a:cubicBezTo>
                <a:cubicBezTo>
                  <a:pt x="2187" y="13729"/>
                  <a:pt x="2203" y="13815"/>
                  <a:pt x="2242" y="13891"/>
                </a:cubicBezTo>
                <a:cubicBezTo>
                  <a:pt x="2271" y="13947"/>
                  <a:pt x="2333" y="14006"/>
                  <a:pt x="2381" y="14049"/>
                </a:cubicBezTo>
                <a:cubicBezTo>
                  <a:pt x="2437" y="14099"/>
                  <a:pt x="2512" y="14133"/>
                  <a:pt x="2580" y="14168"/>
                </a:cubicBezTo>
                <a:cubicBezTo>
                  <a:pt x="2745" y="14252"/>
                  <a:pt x="2858" y="14269"/>
                  <a:pt x="3036" y="14288"/>
                </a:cubicBezTo>
                <a:cubicBezTo>
                  <a:pt x="3192" y="14304"/>
                  <a:pt x="3447" y="14353"/>
                  <a:pt x="3592" y="14288"/>
                </a:cubicBezTo>
                <a:cubicBezTo>
                  <a:pt x="3656" y="14259"/>
                  <a:pt x="3694" y="14211"/>
                  <a:pt x="3731" y="14168"/>
                </a:cubicBezTo>
                <a:cubicBezTo>
                  <a:pt x="3761" y="14133"/>
                  <a:pt x="3836" y="14036"/>
                  <a:pt x="3870" y="13990"/>
                </a:cubicBezTo>
                <a:cubicBezTo>
                  <a:pt x="3907" y="13941"/>
                  <a:pt x="3988" y="13834"/>
                  <a:pt x="4008" y="13772"/>
                </a:cubicBezTo>
                <a:cubicBezTo>
                  <a:pt x="4031" y="13702"/>
                  <a:pt x="4024" y="13649"/>
                  <a:pt x="4028" y="13573"/>
                </a:cubicBezTo>
                <a:cubicBezTo>
                  <a:pt x="4034" y="13450"/>
                  <a:pt x="4035" y="13325"/>
                  <a:pt x="3989" y="13216"/>
                </a:cubicBezTo>
                <a:cubicBezTo>
                  <a:pt x="3976" y="13184"/>
                  <a:pt x="3947" y="13144"/>
                  <a:pt x="3929" y="13117"/>
                </a:cubicBezTo>
                <a:cubicBezTo>
                  <a:pt x="3905" y="13081"/>
                  <a:pt x="3841" y="13027"/>
                  <a:pt x="3830" y="13018"/>
                </a:cubicBezTo>
                <a:cubicBezTo>
                  <a:pt x="3800" y="12995"/>
                  <a:pt x="3787" y="12953"/>
                  <a:pt x="3750" y="12958"/>
                </a:cubicBezTo>
                <a:cubicBezTo>
                  <a:pt x="3657" y="12971"/>
                  <a:pt x="3703" y="12997"/>
                  <a:pt x="3651" y="13057"/>
                </a:cubicBezTo>
                <a:cubicBezTo>
                  <a:pt x="3617" y="13097"/>
                  <a:pt x="3567" y="13183"/>
                  <a:pt x="3552" y="13236"/>
                </a:cubicBezTo>
                <a:cubicBezTo>
                  <a:pt x="3538" y="13287"/>
                  <a:pt x="3540" y="13361"/>
                  <a:pt x="3532" y="13414"/>
                </a:cubicBezTo>
                <a:cubicBezTo>
                  <a:pt x="3523" y="13476"/>
                  <a:pt x="3515" y="13529"/>
                  <a:pt x="3512" y="13593"/>
                </a:cubicBezTo>
                <a:cubicBezTo>
                  <a:pt x="3506" y="13704"/>
                  <a:pt x="3517" y="13781"/>
                  <a:pt x="3552" y="13871"/>
                </a:cubicBezTo>
                <a:cubicBezTo>
                  <a:pt x="3576" y="13932"/>
                  <a:pt x="3601" y="13964"/>
                  <a:pt x="3631" y="14010"/>
                </a:cubicBezTo>
                <a:cubicBezTo>
                  <a:pt x="3649" y="14037"/>
                  <a:pt x="3676" y="14074"/>
                  <a:pt x="3691" y="14109"/>
                </a:cubicBezTo>
                <a:cubicBezTo>
                  <a:pt x="3693" y="14113"/>
                  <a:pt x="3722" y="14149"/>
                  <a:pt x="3731" y="14168"/>
                </a:cubicBezTo>
                <a:cubicBezTo>
                  <a:pt x="3739" y="14185"/>
                  <a:pt x="3750" y="14268"/>
                  <a:pt x="3750" y="14268"/>
                </a:cubicBezTo>
                <a:cubicBezTo>
                  <a:pt x="3762" y="14197"/>
                  <a:pt x="3751" y="14134"/>
                  <a:pt x="3770" y="14069"/>
                </a:cubicBezTo>
                <a:cubicBezTo>
                  <a:pt x="3780" y="14035"/>
                  <a:pt x="3792" y="13982"/>
                  <a:pt x="3810" y="13950"/>
                </a:cubicBezTo>
                <a:cubicBezTo>
                  <a:pt x="3827" y="13919"/>
                  <a:pt x="3877" y="13886"/>
                  <a:pt x="3889" y="13871"/>
                </a:cubicBezTo>
                <a:cubicBezTo>
                  <a:pt x="3911" y="13842"/>
                  <a:pt x="3923" y="13807"/>
                  <a:pt x="3949" y="13791"/>
                </a:cubicBezTo>
                <a:cubicBezTo>
                  <a:pt x="3981" y="13771"/>
                  <a:pt x="3998" y="13766"/>
                  <a:pt x="4028" y="13752"/>
                </a:cubicBezTo>
                <a:cubicBezTo>
                  <a:pt x="4044" y="13744"/>
                  <a:pt x="4071" y="13759"/>
                  <a:pt x="4088" y="13752"/>
                </a:cubicBezTo>
                <a:cubicBezTo>
                  <a:pt x="4102" y="13832"/>
                  <a:pt x="4089" y="13886"/>
                  <a:pt x="4108" y="13950"/>
                </a:cubicBezTo>
                <a:cubicBezTo>
                  <a:pt x="4120" y="13988"/>
                  <a:pt x="4149" y="14055"/>
                  <a:pt x="4167" y="14089"/>
                </a:cubicBezTo>
                <a:cubicBezTo>
                  <a:pt x="4191" y="14136"/>
                  <a:pt x="4207" y="14163"/>
                  <a:pt x="4247" y="14208"/>
                </a:cubicBezTo>
                <a:cubicBezTo>
                  <a:pt x="4266" y="14230"/>
                  <a:pt x="4261" y="14253"/>
                  <a:pt x="4286" y="14268"/>
                </a:cubicBezTo>
                <a:cubicBezTo>
                  <a:pt x="4309" y="14281"/>
                  <a:pt x="4336" y="14289"/>
                  <a:pt x="4366" y="14288"/>
                </a:cubicBezTo>
                <a:cubicBezTo>
                  <a:pt x="4460" y="14284"/>
                  <a:pt x="4404" y="14278"/>
                  <a:pt x="4465" y="14228"/>
                </a:cubicBezTo>
                <a:cubicBezTo>
                  <a:pt x="4470" y="14224"/>
                  <a:pt x="4517" y="14179"/>
                  <a:pt x="4524" y="14168"/>
                </a:cubicBezTo>
                <a:cubicBezTo>
                  <a:pt x="4540" y="14145"/>
                  <a:pt x="4574" y="14061"/>
                  <a:pt x="4584" y="14030"/>
                </a:cubicBezTo>
                <a:cubicBezTo>
                  <a:pt x="4600" y="13979"/>
                  <a:pt x="4612" y="13941"/>
                  <a:pt x="4624" y="13891"/>
                </a:cubicBezTo>
                <a:cubicBezTo>
                  <a:pt x="4638" y="13833"/>
                  <a:pt x="4606" y="13781"/>
                  <a:pt x="4643" y="13732"/>
                </a:cubicBezTo>
                <a:cubicBezTo>
                  <a:pt x="4666" y="13701"/>
                  <a:pt x="4694" y="13691"/>
                  <a:pt x="4723" y="13672"/>
                </a:cubicBezTo>
                <a:cubicBezTo>
                  <a:pt x="4758" y="13649"/>
                  <a:pt x="4840" y="13640"/>
                  <a:pt x="4882" y="13633"/>
                </a:cubicBezTo>
                <a:cubicBezTo>
                  <a:pt x="4956" y="13621"/>
                  <a:pt x="5019" y="13607"/>
                  <a:pt x="5080" y="13593"/>
                </a:cubicBezTo>
                <a:cubicBezTo>
                  <a:pt x="5126" y="13583"/>
                  <a:pt x="5150" y="13582"/>
                  <a:pt x="5179" y="13573"/>
                </a:cubicBezTo>
                <a:cubicBezTo>
                  <a:pt x="5166" y="13665"/>
                  <a:pt x="5145" y="13755"/>
                  <a:pt x="5140" y="13851"/>
                </a:cubicBezTo>
                <a:cubicBezTo>
                  <a:pt x="5136" y="13926"/>
                  <a:pt x="5146" y="14023"/>
                  <a:pt x="5159" y="14069"/>
                </a:cubicBezTo>
                <a:cubicBezTo>
                  <a:pt x="5172" y="14116"/>
                  <a:pt x="5163" y="14101"/>
                  <a:pt x="5199" y="14149"/>
                </a:cubicBezTo>
                <a:cubicBezTo>
                  <a:pt x="5221" y="14177"/>
                  <a:pt x="5240" y="14214"/>
                  <a:pt x="5278" y="14228"/>
                </a:cubicBezTo>
                <a:cubicBezTo>
                  <a:pt x="5315" y="14241"/>
                  <a:pt x="5350" y="14261"/>
                  <a:pt x="5398" y="14248"/>
                </a:cubicBezTo>
                <a:cubicBezTo>
                  <a:pt x="5420" y="14242"/>
                  <a:pt x="5499" y="14152"/>
                  <a:pt x="5536" y="14129"/>
                </a:cubicBezTo>
                <a:cubicBezTo>
                  <a:pt x="5600" y="14089"/>
                  <a:pt x="5660" y="14040"/>
                  <a:pt x="5715" y="13990"/>
                </a:cubicBezTo>
                <a:cubicBezTo>
                  <a:pt x="5751" y="13957"/>
                  <a:pt x="5798" y="13954"/>
                  <a:pt x="5814" y="13910"/>
                </a:cubicBezTo>
                <a:cubicBezTo>
                  <a:pt x="5831" y="13863"/>
                  <a:pt x="5798" y="13807"/>
                  <a:pt x="5794" y="13791"/>
                </a:cubicBezTo>
                <a:cubicBezTo>
                  <a:pt x="5782" y="13748"/>
                  <a:pt x="5776" y="13752"/>
                  <a:pt x="5755" y="13712"/>
                </a:cubicBezTo>
                <a:cubicBezTo>
                  <a:pt x="5741" y="13685"/>
                  <a:pt x="5706" y="13667"/>
                  <a:pt x="5695" y="13652"/>
                </a:cubicBezTo>
                <a:cubicBezTo>
                  <a:pt x="5683" y="13636"/>
                  <a:pt x="5665" y="13626"/>
                  <a:pt x="5655" y="13613"/>
                </a:cubicBezTo>
                <a:cubicBezTo>
                  <a:pt x="5639" y="13593"/>
                  <a:pt x="5640" y="13581"/>
                  <a:pt x="5616" y="13553"/>
                </a:cubicBezTo>
                <a:cubicBezTo>
                  <a:pt x="5616" y="13586"/>
                  <a:pt x="5591" y="13600"/>
                  <a:pt x="5596" y="13633"/>
                </a:cubicBezTo>
                <a:cubicBezTo>
                  <a:pt x="5609" y="13709"/>
                  <a:pt x="5609" y="13744"/>
                  <a:pt x="5636" y="13811"/>
                </a:cubicBezTo>
                <a:cubicBezTo>
                  <a:pt x="5663" y="13879"/>
                  <a:pt x="5703" y="13935"/>
                  <a:pt x="5755" y="13990"/>
                </a:cubicBezTo>
                <a:cubicBezTo>
                  <a:pt x="5811" y="14050"/>
                  <a:pt x="5750" y="14025"/>
                  <a:pt x="5814" y="14049"/>
                </a:cubicBezTo>
                <a:cubicBezTo>
                  <a:pt x="5825" y="14053"/>
                  <a:pt x="5841" y="14065"/>
                  <a:pt x="5874" y="14069"/>
                </a:cubicBezTo>
                <a:cubicBezTo>
                  <a:pt x="5913" y="14074"/>
                  <a:pt x="5934" y="14054"/>
                  <a:pt x="5973" y="14049"/>
                </a:cubicBezTo>
                <a:cubicBezTo>
                  <a:pt x="6019" y="14043"/>
                  <a:pt x="6067" y="14024"/>
                  <a:pt x="6112" y="14010"/>
                </a:cubicBezTo>
                <a:cubicBezTo>
                  <a:pt x="6161" y="13994"/>
                  <a:pt x="6268" y="13974"/>
                  <a:pt x="6310" y="13950"/>
                </a:cubicBezTo>
                <a:cubicBezTo>
                  <a:pt x="6372" y="13914"/>
                  <a:pt x="6402" y="13878"/>
                  <a:pt x="6449" y="13831"/>
                </a:cubicBezTo>
                <a:cubicBezTo>
                  <a:pt x="6480" y="13800"/>
                  <a:pt x="6519" y="13779"/>
                  <a:pt x="6529" y="13752"/>
                </a:cubicBezTo>
                <a:cubicBezTo>
                  <a:pt x="6546" y="13706"/>
                  <a:pt x="6544" y="13560"/>
                  <a:pt x="6548" y="13533"/>
                </a:cubicBezTo>
                <a:cubicBezTo>
                  <a:pt x="6548" y="13527"/>
                  <a:pt x="6548" y="13520"/>
                  <a:pt x="6548" y="13514"/>
                </a:cubicBezTo>
                <a:cubicBezTo>
                  <a:pt x="6575" y="13523"/>
                  <a:pt x="6601" y="13525"/>
                  <a:pt x="6628" y="13533"/>
                </a:cubicBezTo>
                <a:cubicBezTo>
                  <a:pt x="6651" y="13540"/>
                  <a:pt x="6685" y="13543"/>
                  <a:pt x="6707" y="13553"/>
                </a:cubicBezTo>
                <a:cubicBezTo>
                  <a:pt x="6738" y="13567"/>
                  <a:pt x="6743" y="13558"/>
                  <a:pt x="6767" y="13573"/>
                </a:cubicBezTo>
                <a:cubicBezTo>
                  <a:pt x="6818" y="13604"/>
                  <a:pt x="6863" y="13662"/>
                  <a:pt x="6906" y="13692"/>
                </a:cubicBezTo>
                <a:cubicBezTo>
                  <a:pt x="6951" y="13723"/>
                  <a:pt x="6980" y="13717"/>
                  <a:pt x="7025" y="13772"/>
                </a:cubicBezTo>
                <a:cubicBezTo>
                  <a:pt x="7064" y="13819"/>
                  <a:pt x="7071" y="13767"/>
                  <a:pt x="7084" y="13831"/>
                </a:cubicBezTo>
                <a:cubicBezTo>
                  <a:pt x="7098" y="13902"/>
                  <a:pt x="7063" y="13935"/>
                  <a:pt x="7045" y="13990"/>
                </a:cubicBezTo>
                <a:cubicBezTo>
                  <a:pt x="7032" y="14030"/>
                  <a:pt x="7003" y="14056"/>
                  <a:pt x="6985" y="14089"/>
                </a:cubicBezTo>
                <a:cubicBezTo>
                  <a:pt x="6970" y="14115"/>
                  <a:pt x="6962" y="14156"/>
                  <a:pt x="6945" y="14168"/>
                </a:cubicBezTo>
                <a:cubicBezTo>
                  <a:pt x="6926" y="14182"/>
                  <a:pt x="6916" y="14197"/>
                  <a:pt x="6886" y="14208"/>
                </a:cubicBezTo>
                <a:cubicBezTo>
                  <a:pt x="6790" y="14244"/>
                  <a:pt x="6644" y="14201"/>
                  <a:pt x="6568" y="14168"/>
                </a:cubicBezTo>
                <a:cubicBezTo>
                  <a:pt x="6536" y="14154"/>
                  <a:pt x="6520" y="14128"/>
                  <a:pt x="6489" y="14109"/>
                </a:cubicBezTo>
                <a:cubicBezTo>
                  <a:pt x="6466" y="14095"/>
                  <a:pt x="6459" y="14093"/>
                  <a:pt x="6429" y="14069"/>
                </a:cubicBezTo>
                <a:cubicBezTo>
                  <a:pt x="6401" y="14047"/>
                  <a:pt x="6381" y="14029"/>
                  <a:pt x="6370" y="14010"/>
                </a:cubicBezTo>
                <a:cubicBezTo>
                  <a:pt x="6362" y="13996"/>
                  <a:pt x="6336" y="13986"/>
                  <a:pt x="6330" y="13950"/>
                </a:cubicBezTo>
                <a:cubicBezTo>
                  <a:pt x="6322" y="13903"/>
                  <a:pt x="6335" y="13875"/>
                  <a:pt x="6350" y="13851"/>
                </a:cubicBezTo>
                <a:cubicBezTo>
                  <a:pt x="6366" y="13825"/>
                  <a:pt x="6363" y="13826"/>
                  <a:pt x="6390" y="13811"/>
                </a:cubicBezTo>
                <a:cubicBezTo>
                  <a:pt x="6416" y="13796"/>
                  <a:pt x="6440" y="13799"/>
                  <a:pt x="6469" y="13791"/>
                </a:cubicBezTo>
                <a:cubicBezTo>
                  <a:pt x="6575" y="13762"/>
                  <a:pt x="6669" y="13809"/>
                  <a:pt x="6747" y="13851"/>
                </a:cubicBezTo>
                <a:cubicBezTo>
                  <a:pt x="6788" y="13873"/>
                  <a:pt x="6850" y="13917"/>
                  <a:pt x="6886" y="13950"/>
                </a:cubicBezTo>
                <a:cubicBezTo>
                  <a:pt x="6921" y="13982"/>
                  <a:pt x="6937" y="14018"/>
                  <a:pt x="6965" y="14049"/>
                </a:cubicBezTo>
                <a:cubicBezTo>
                  <a:pt x="6999" y="14086"/>
                  <a:pt x="7007" y="14117"/>
                  <a:pt x="7045" y="14149"/>
                </a:cubicBezTo>
                <a:cubicBezTo>
                  <a:pt x="7074" y="14174"/>
                  <a:pt x="7081" y="14196"/>
                  <a:pt x="7104" y="14208"/>
                </a:cubicBezTo>
                <a:cubicBezTo>
                  <a:pt x="7110" y="14211"/>
                  <a:pt x="7182" y="14248"/>
                  <a:pt x="7183" y="14248"/>
                </a:cubicBezTo>
                <a:cubicBezTo>
                  <a:pt x="7236" y="14256"/>
                  <a:pt x="7278" y="14243"/>
                  <a:pt x="7302" y="14228"/>
                </a:cubicBezTo>
                <a:cubicBezTo>
                  <a:pt x="7321" y="14216"/>
                  <a:pt x="7307" y="14186"/>
                  <a:pt x="7322" y="14168"/>
                </a:cubicBezTo>
                <a:cubicBezTo>
                  <a:pt x="7358" y="14124"/>
                  <a:pt x="7362" y="14093"/>
                  <a:pt x="7382" y="14049"/>
                </a:cubicBezTo>
                <a:cubicBezTo>
                  <a:pt x="7404" y="13999"/>
                  <a:pt x="7418" y="13943"/>
                  <a:pt x="7441" y="13891"/>
                </a:cubicBezTo>
                <a:cubicBezTo>
                  <a:pt x="7472" y="13820"/>
                  <a:pt x="7491" y="13767"/>
                  <a:pt x="7501" y="13692"/>
                </a:cubicBezTo>
                <a:cubicBezTo>
                  <a:pt x="7533" y="13462"/>
                  <a:pt x="7592" y="12780"/>
                  <a:pt x="7481" y="12621"/>
                </a:cubicBezTo>
                <a:cubicBezTo>
                  <a:pt x="7464" y="12597"/>
                  <a:pt x="7470" y="12595"/>
                  <a:pt x="7441" y="12581"/>
                </a:cubicBezTo>
                <a:cubicBezTo>
                  <a:pt x="7421" y="12571"/>
                  <a:pt x="7390" y="12552"/>
                  <a:pt x="7362" y="12561"/>
                </a:cubicBezTo>
                <a:cubicBezTo>
                  <a:pt x="7336" y="12569"/>
                  <a:pt x="7301" y="12599"/>
                  <a:pt x="7283" y="12621"/>
                </a:cubicBezTo>
                <a:cubicBezTo>
                  <a:pt x="7271" y="12636"/>
                  <a:pt x="7207" y="12802"/>
                  <a:pt x="7203" y="12819"/>
                </a:cubicBezTo>
                <a:cubicBezTo>
                  <a:pt x="7189" y="12880"/>
                  <a:pt x="7188" y="12955"/>
                  <a:pt x="7183" y="13018"/>
                </a:cubicBezTo>
                <a:cubicBezTo>
                  <a:pt x="7172" y="13152"/>
                  <a:pt x="7212" y="13243"/>
                  <a:pt x="7243" y="13355"/>
                </a:cubicBezTo>
                <a:cubicBezTo>
                  <a:pt x="7252" y="13387"/>
                  <a:pt x="7281" y="13465"/>
                  <a:pt x="7283" y="13474"/>
                </a:cubicBezTo>
                <a:cubicBezTo>
                  <a:pt x="7289" y="13499"/>
                  <a:pt x="7301" y="13570"/>
                  <a:pt x="7302" y="13573"/>
                </a:cubicBezTo>
                <a:cubicBezTo>
                  <a:pt x="7314" y="13617"/>
                  <a:pt x="7309" y="13650"/>
                  <a:pt x="7322" y="13692"/>
                </a:cubicBezTo>
                <a:cubicBezTo>
                  <a:pt x="7332" y="13725"/>
                  <a:pt x="7353" y="13760"/>
                  <a:pt x="7362" y="13791"/>
                </a:cubicBezTo>
                <a:cubicBezTo>
                  <a:pt x="7372" y="13825"/>
                  <a:pt x="7379" y="13918"/>
                  <a:pt x="7402" y="13950"/>
                </a:cubicBezTo>
                <a:cubicBezTo>
                  <a:pt x="7416" y="13970"/>
                  <a:pt x="7402" y="13998"/>
                  <a:pt x="7422" y="14010"/>
                </a:cubicBezTo>
                <a:cubicBezTo>
                  <a:pt x="7480" y="14044"/>
                  <a:pt x="7768" y="14016"/>
                  <a:pt x="7799" y="13990"/>
                </a:cubicBezTo>
                <a:cubicBezTo>
                  <a:pt x="7819" y="13973"/>
                  <a:pt x="7825" y="13973"/>
                  <a:pt x="7838" y="13950"/>
                </a:cubicBezTo>
                <a:cubicBezTo>
                  <a:pt x="7864" y="13905"/>
                  <a:pt x="7857" y="13808"/>
                  <a:pt x="7858" y="13752"/>
                </a:cubicBezTo>
                <a:cubicBezTo>
                  <a:pt x="7859" y="13684"/>
                  <a:pt x="7858" y="13614"/>
                  <a:pt x="7838" y="13553"/>
                </a:cubicBezTo>
                <a:cubicBezTo>
                  <a:pt x="7829" y="13526"/>
                  <a:pt x="7789" y="13541"/>
                  <a:pt x="7779" y="13514"/>
                </a:cubicBezTo>
                <a:cubicBezTo>
                  <a:pt x="7779" y="13507"/>
                  <a:pt x="7779" y="13501"/>
                  <a:pt x="7779" y="13494"/>
                </a:cubicBezTo>
                <a:cubicBezTo>
                  <a:pt x="7779" y="13527"/>
                  <a:pt x="7753" y="13541"/>
                  <a:pt x="7759" y="13573"/>
                </a:cubicBezTo>
                <a:cubicBezTo>
                  <a:pt x="7769" y="13628"/>
                  <a:pt x="7777" y="13658"/>
                  <a:pt x="7799" y="13712"/>
                </a:cubicBezTo>
                <a:cubicBezTo>
                  <a:pt x="7828" y="13784"/>
                  <a:pt x="7866" y="13824"/>
                  <a:pt x="7918" y="13871"/>
                </a:cubicBezTo>
                <a:cubicBezTo>
                  <a:pt x="7965" y="13912"/>
                  <a:pt x="8008" y="13925"/>
                  <a:pt x="8057" y="13950"/>
                </a:cubicBezTo>
                <a:cubicBezTo>
                  <a:pt x="8076" y="13950"/>
                  <a:pt x="8083" y="13950"/>
                  <a:pt x="8096" y="13950"/>
                </a:cubicBezTo>
                <a:cubicBezTo>
                  <a:pt x="8103" y="13934"/>
                  <a:pt x="8130" y="13893"/>
                  <a:pt x="8136" y="13871"/>
                </a:cubicBezTo>
                <a:cubicBezTo>
                  <a:pt x="8138" y="13863"/>
                  <a:pt x="8169" y="13818"/>
                  <a:pt x="8176" y="13791"/>
                </a:cubicBezTo>
                <a:cubicBezTo>
                  <a:pt x="8188" y="13741"/>
                  <a:pt x="8174" y="13697"/>
                  <a:pt x="8195" y="13652"/>
                </a:cubicBezTo>
                <a:cubicBezTo>
                  <a:pt x="8208" y="13624"/>
                  <a:pt x="8212" y="13598"/>
                  <a:pt x="8235" y="13573"/>
                </a:cubicBezTo>
                <a:cubicBezTo>
                  <a:pt x="8248" y="13559"/>
                  <a:pt x="8297" y="13523"/>
                  <a:pt x="8334" y="13514"/>
                </a:cubicBezTo>
                <a:cubicBezTo>
                  <a:pt x="8438" y="13488"/>
                  <a:pt x="8449" y="13544"/>
                  <a:pt x="8493" y="13573"/>
                </a:cubicBezTo>
                <a:cubicBezTo>
                  <a:pt x="8542" y="13605"/>
                  <a:pt x="8554" y="13624"/>
                  <a:pt x="8572" y="13672"/>
                </a:cubicBezTo>
                <a:cubicBezTo>
                  <a:pt x="8592" y="13726"/>
                  <a:pt x="8605" y="13806"/>
                  <a:pt x="8592" y="13871"/>
                </a:cubicBezTo>
                <a:cubicBezTo>
                  <a:pt x="8574" y="13889"/>
                  <a:pt x="8571" y="13895"/>
                  <a:pt x="8553" y="13891"/>
                </a:cubicBezTo>
                <a:cubicBezTo>
                  <a:pt x="8554" y="13856"/>
                  <a:pt x="8529" y="13840"/>
                  <a:pt x="8533" y="13811"/>
                </a:cubicBezTo>
                <a:cubicBezTo>
                  <a:pt x="8544" y="13731"/>
                  <a:pt x="8543" y="13664"/>
                  <a:pt x="8572" y="13593"/>
                </a:cubicBezTo>
                <a:cubicBezTo>
                  <a:pt x="8580" y="13573"/>
                  <a:pt x="8627" y="13500"/>
                  <a:pt x="8652" y="13474"/>
                </a:cubicBezTo>
                <a:cubicBezTo>
                  <a:pt x="8681" y="13444"/>
                  <a:pt x="8691" y="13407"/>
                  <a:pt x="8731" y="13395"/>
                </a:cubicBezTo>
                <a:cubicBezTo>
                  <a:pt x="8774" y="13382"/>
                  <a:pt x="8837" y="13394"/>
                  <a:pt x="8870" y="13414"/>
                </a:cubicBezTo>
                <a:cubicBezTo>
                  <a:pt x="8961" y="13468"/>
                  <a:pt x="8975" y="13632"/>
                  <a:pt x="9009" y="13712"/>
                </a:cubicBezTo>
                <a:cubicBezTo>
                  <a:pt x="9041" y="13786"/>
                  <a:pt x="9063" y="13853"/>
                  <a:pt x="9108" y="13910"/>
                </a:cubicBezTo>
                <a:cubicBezTo>
                  <a:pt x="9120" y="13926"/>
                  <a:pt x="9144" y="13977"/>
                  <a:pt x="9168" y="13990"/>
                </a:cubicBezTo>
                <a:cubicBezTo>
                  <a:pt x="9233" y="14026"/>
                  <a:pt x="9248" y="14029"/>
                  <a:pt x="9327" y="14030"/>
                </a:cubicBezTo>
                <a:cubicBezTo>
                  <a:pt x="9420" y="14031"/>
                  <a:pt x="9499" y="14008"/>
                  <a:pt x="9585" y="13970"/>
                </a:cubicBezTo>
                <a:cubicBezTo>
                  <a:pt x="9676" y="13930"/>
                  <a:pt x="9793" y="13881"/>
                  <a:pt x="9862" y="13811"/>
                </a:cubicBezTo>
                <a:cubicBezTo>
                  <a:pt x="9908" y="13764"/>
                  <a:pt x="9931" y="13769"/>
                  <a:pt x="9942" y="13712"/>
                </a:cubicBezTo>
                <a:cubicBezTo>
                  <a:pt x="9955" y="13644"/>
                  <a:pt x="9906" y="13622"/>
                  <a:pt x="9882" y="13573"/>
                </a:cubicBezTo>
                <a:cubicBezTo>
                  <a:pt x="9850" y="13508"/>
                  <a:pt x="9825" y="13461"/>
                  <a:pt x="9763" y="13414"/>
                </a:cubicBezTo>
                <a:cubicBezTo>
                  <a:pt x="9704" y="13370"/>
                  <a:pt x="9617" y="13353"/>
                  <a:pt x="9545" y="13335"/>
                </a:cubicBezTo>
                <a:cubicBezTo>
                  <a:pt x="9469" y="13315"/>
                  <a:pt x="9389" y="13307"/>
                  <a:pt x="9307" y="13315"/>
                </a:cubicBezTo>
                <a:cubicBezTo>
                  <a:pt x="9216" y="13324"/>
                  <a:pt x="9211" y="13356"/>
                  <a:pt x="9168" y="13395"/>
                </a:cubicBezTo>
                <a:cubicBezTo>
                  <a:pt x="9140" y="13420"/>
                  <a:pt x="9124" y="13429"/>
                  <a:pt x="9108" y="13474"/>
                </a:cubicBezTo>
                <a:cubicBezTo>
                  <a:pt x="9092" y="13521"/>
                  <a:pt x="9085" y="13581"/>
                  <a:pt x="9088" y="13633"/>
                </a:cubicBezTo>
                <a:cubicBezTo>
                  <a:pt x="9093" y="13717"/>
                  <a:pt x="9111" y="13761"/>
                  <a:pt x="9168" y="13831"/>
                </a:cubicBezTo>
                <a:cubicBezTo>
                  <a:pt x="9236" y="13914"/>
                  <a:pt x="9295" y="13928"/>
                  <a:pt x="9386" y="13970"/>
                </a:cubicBezTo>
                <a:cubicBezTo>
                  <a:pt x="9473" y="14010"/>
                  <a:pt x="9549" y="14022"/>
                  <a:pt x="9644" y="14030"/>
                </a:cubicBezTo>
                <a:cubicBezTo>
                  <a:pt x="9750" y="14039"/>
                  <a:pt x="9863" y="14033"/>
                  <a:pt x="9962" y="14010"/>
                </a:cubicBezTo>
                <a:cubicBezTo>
                  <a:pt x="10044" y="13991"/>
                  <a:pt x="10112" y="13940"/>
                  <a:pt x="10180" y="13910"/>
                </a:cubicBezTo>
                <a:cubicBezTo>
                  <a:pt x="10244" y="13882"/>
                  <a:pt x="10322" y="13867"/>
                  <a:pt x="10378" y="13831"/>
                </a:cubicBezTo>
                <a:cubicBezTo>
                  <a:pt x="10378" y="13808"/>
                  <a:pt x="10380" y="13800"/>
                  <a:pt x="10398" y="13791"/>
                </a:cubicBezTo>
              </a:path>
              <a:path w="14387" h="3176">
                <a:moveTo>
                  <a:pt x="7957" y="12998"/>
                </a:moveTo>
                <a:cubicBezTo>
                  <a:pt x="7411" y="12998"/>
                  <a:pt x="6680" y="13134"/>
                  <a:pt x="6171" y="12978"/>
                </a:cubicBezTo>
                <a:cubicBezTo>
                  <a:pt x="6165" y="12978"/>
                  <a:pt x="6158" y="12978"/>
                  <a:pt x="6152" y="12978"/>
                </a:cubicBezTo>
              </a:path>
              <a:path w="14387" h="3176">
                <a:moveTo>
                  <a:pt x="7759" y="13275"/>
                </a:moveTo>
                <a:lnTo>
                  <a:pt x="7759" y="13275"/>
                </a:lnTo>
              </a:path>
              <a:path w="14387" h="3176">
                <a:moveTo>
                  <a:pt x="5636" y="13236"/>
                </a:moveTo>
                <a:lnTo>
                  <a:pt x="5636" y="13236"/>
                </a:lnTo>
              </a:path>
              <a:path w="14387" h="3176">
                <a:moveTo>
                  <a:pt x="10616" y="12462"/>
                </a:moveTo>
                <a:cubicBezTo>
                  <a:pt x="10622" y="12456"/>
                  <a:pt x="10653" y="12427"/>
                  <a:pt x="10656" y="12422"/>
                </a:cubicBezTo>
                <a:cubicBezTo>
                  <a:pt x="10675" y="12393"/>
                  <a:pt x="10693" y="12384"/>
                  <a:pt x="10716" y="12363"/>
                </a:cubicBezTo>
                <a:cubicBezTo>
                  <a:pt x="10778" y="12308"/>
                  <a:pt x="10835" y="12263"/>
                  <a:pt x="10894" y="12224"/>
                </a:cubicBezTo>
                <a:cubicBezTo>
                  <a:pt x="10930" y="12200"/>
                  <a:pt x="10954" y="12157"/>
                  <a:pt x="10993" y="12144"/>
                </a:cubicBezTo>
                <a:cubicBezTo>
                  <a:pt x="11041" y="12129"/>
                  <a:pt x="11034" y="12128"/>
                  <a:pt x="11093" y="12125"/>
                </a:cubicBezTo>
                <a:cubicBezTo>
                  <a:pt x="11188" y="12121"/>
                  <a:pt x="11286" y="12185"/>
                  <a:pt x="11370" y="12224"/>
                </a:cubicBezTo>
                <a:cubicBezTo>
                  <a:pt x="11537" y="12302"/>
                  <a:pt x="11658" y="12424"/>
                  <a:pt x="11807" y="12521"/>
                </a:cubicBezTo>
                <a:cubicBezTo>
                  <a:pt x="11885" y="12572"/>
                  <a:pt x="12032" y="12652"/>
                  <a:pt x="12125" y="12660"/>
                </a:cubicBezTo>
                <a:cubicBezTo>
                  <a:pt x="12171" y="12660"/>
                  <a:pt x="12178" y="12660"/>
                  <a:pt x="12204" y="12660"/>
                </a:cubicBezTo>
                <a:cubicBezTo>
                  <a:pt x="12204" y="12608"/>
                  <a:pt x="12202" y="12570"/>
                  <a:pt x="12224" y="12521"/>
                </a:cubicBezTo>
                <a:cubicBezTo>
                  <a:pt x="12247" y="12470"/>
                  <a:pt x="12317" y="12399"/>
                  <a:pt x="12363" y="12363"/>
                </a:cubicBezTo>
                <a:cubicBezTo>
                  <a:pt x="12419" y="12319"/>
                  <a:pt x="12480" y="12283"/>
                  <a:pt x="12541" y="12244"/>
                </a:cubicBezTo>
                <a:cubicBezTo>
                  <a:pt x="12579" y="12219"/>
                  <a:pt x="12616" y="12180"/>
                  <a:pt x="12660" y="12164"/>
                </a:cubicBezTo>
                <a:cubicBezTo>
                  <a:pt x="12667" y="12164"/>
                  <a:pt x="12673" y="12164"/>
                  <a:pt x="12680" y="12164"/>
                </a:cubicBezTo>
              </a:path>
              <a:path w="14387" h="3176">
                <a:moveTo>
                  <a:pt x="10696" y="12303"/>
                </a:moveTo>
                <a:cubicBezTo>
                  <a:pt x="10696" y="12466"/>
                  <a:pt x="10701" y="12611"/>
                  <a:pt x="10735" y="12760"/>
                </a:cubicBezTo>
                <a:cubicBezTo>
                  <a:pt x="10758" y="12861"/>
                  <a:pt x="10752" y="12979"/>
                  <a:pt x="10795" y="13077"/>
                </a:cubicBezTo>
                <a:cubicBezTo>
                  <a:pt x="10836" y="13171"/>
                  <a:pt x="10891" y="13250"/>
                  <a:pt x="10894" y="13355"/>
                </a:cubicBezTo>
                <a:cubicBezTo>
                  <a:pt x="10897" y="13454"/>
                  <a:pt x="10863" y="13668"/>
                  <a:pt x="10914" y="13732"/>
                </a:cubicBezTo>
                <a:cubicBezTo>
                  <a:pt x="10930" y="13752"/>
                  <a:pt x="10932" y="13757"/>
                  <a:pt x="10934" y="13791"/>
                </a:cubicBezTo>
                <a:cubicBezTo>
                  <a:pt x="10935" y="13811"/>
                  <a:pt x="10934" y="13831"/>
                  <a:pt x="10934" y="13851"/>
                </a:cubicBezTo>
              </a:path>
              <a:path w="14387" h="3176">
                <a:moveTo>
                  <a:pt x="11351" y="13018"/>
                </a:moveTo>
                <a:cubicBezTo>
                  <a:pt x="11314" y="13018"/>
                  <a:pt x="11300" y="13031"/>
                  <a:pt x="11271" y="13037"/>
                </a:cubicBezTo>
                <a:cubicBezTo>
                  <a:pt x="11225" y="13047"/>
                  <a:pt x="11176" y="13069"/>
                  <a:pt x="11132" y="13077"/>
                </a:cubicBezTo>
                <a:cubicBezTo>
                  <a:pt x="11072" y="13088"/>
                  <a:pt x="11014" y="13114"/>
                  <a:pt x="10954" y="13117"/>
                </a:cubicBezTo>
                <a:cubicBezTo>
                  <a:pt x="10901" y="13120"/>
                  <a:pt x="10848" y="13117"/>
                  <a:pt x="10795" y="13117"/>
                </a:cubicBezTo>
              </a:path>
              <a:path w="14387" h="3176">
                <a:moveTo>
                  <a:pt x="10914" y="13732"/>
                </a:moveTo>
                <a:cubicBezTo>
                  <a:pt x="10926" y="13711"/>
                  <a:pt x="10918" y="13673"/>
                  <a:pt x="10934" y="13652"/>
                </a:cubicBezTo>
                <a:cubicBezTo>
                  <a:pt x="10973" y="13600"/>
                  <a:pt x="11012" y="13540"/>
                  <a:pt x="11053" y="13494"/>
                </a:cubicBezTo>
                <a:cubicBezTo>
                  <a:pt x="11091" y="13451"/>
                  <a:pt x="11143" y="13411"/>
                  <a:pt x="11192" y="13375"/>
                </a:cubicBezTo>
                <a:cubicBezTo>
                  <a:pt x="11271" y="13317"/>
                  <a:pt x="11339" y="13298"/>
                  <a:pt x="11430" y="13275"/>
                </a:cubicBezTo>
                <a:cubicBezTo>
                  <a:pt x="11475" y="13263"/>
                  <a:pt x="11521" y="13256"/>
                  <a:pt x="11569" y="13256"/>
                </a:cubicBezTo>
                <a:cubicBezTo>
                  <a:pt x="11622" y="13256"/>
                  <a:pt x="11642" y="13259"/>
                  <a:pt x="11668" y="13275"/>
                </a:cubicBezTo>
                <a:cubicBezTo>
                  <a:pt x="11703" y="13296"/>
                  <a:pt x="11717" y="13286"/>
                  <a:pt x="11748" y="13335"/>
                </a:cubicBezTo>
                <a:cubicBezTo>
                  <a:pt x="11768" y="13367"/>
                  <a:pt x="11774" y="13436"/>
                  <a:pt x="11787" y="13474"/>
                </a:cubicBezTo>
                <a:cubicBezTo>
                  <a:pt x="11808" y="13536"/>
                  <a:pt x="11830" y="13541"/>
                  <a:pt x="11827" y="13613"/>
                </a:cubicBezTo>
                <a:cubicBezTo>
                  <a:pt x="11825" y="13660"/>
                  <a:pt x="11805" y="13686"/>
                  <a:pt x="11787" y="13712"/>
                </a:cubicBezTo>
                <a:cubicBezTo>
                  <a:pt x="11785" y="13715"/>
                  <a:pt x="11719" y="13743"/>
                  <a:pt x="11708" y="13752"/>
                </a:cubicBezTo>
                <a:cubicBezTo>
                  <a:pt x="11672" y="13781"/>
                  <a:pt x="11649" y="13820"/>
                  <a:pt x="11589" y="13831"/>
                </a:cubicBezTo>
                <a:cubicBezTo>
                  <a:pt x="11518" y="13844"/>
                  <a:pt x="11489" y="13814"/>
                  <a:pt x="11450" y="13791"/>
                </a:cubicBezTo>
                <a:cubicBezTo>
                  <a:pt x="11431" y="13780"/>
                  <a:pt x="11406" y="13750"/>
                  <a:pt x="11390" y="13732"/>
                </a:cubicBezTo>
                <a:cubicBezTo>
                  <a:pt x="11376" y="13716"/>
                  <a:pt x="11365" y="13703"/>
                  <a:pt x="11351" y="13672"/>
                </a:cubicBezTo>
                <a:cubicBezTo>
                  <a:pt x="11328" y="13622"/>
                  <a:pt x="11334" y="13620"/>
                  <a:pt x="11331" y="13553"/>
                </a:cubicBezTo>
                <a:cubicBezTo>
                  <a:pt x="11329" y="13493"/>
                  <a:pt x="11340" y="13447"/>
                  <a:pt x="11370" y="13395"/>
                </a:cubicBezTo>
                <a:cubicBezTo>
                  <a:pt x="11392" y="13357"/>
                  <a:pt x="11405" y="13332"/>
                  <a:pt x="11450" y="13315"/>
                </a:cubicBezTo>
                <a:cubicBezTo>
                  <a:pt x="11511" y="13293"/>
                  <a:pt x="11806" y="13294"/>
                  <a:pt x="11847" y="13335"/>
                </a:cubicBezTo>
                <a:cubicBezTo>
                  <a:pt x="11871" y="13359"/>
                  <a:pt x="11850" y="13358"/>
                  <a:pt x="11867" y="13395"/>
                </a:cubicBezTo>
                <a:cubicBezTo>
                  <a:pt x="11877" y="13417"/>
                  <a:pt x="11883" y="13470"/>
                  <a:pt x="11886" y="13494"/>
                </a:cubicBezTo>
                <a:cubicBezTo>
                  <a:pt x="11896" y="13577"/>
                  <a:pt x="11878" y="13677"/>
                  <a:pt x="11906" y="13732"/>
                </a:cubicBezTo>
                <a:cubicBezTo>
                  <a:pt x="11926" y="13771"/>
                  <a:pt x="11899" y="13762"/>
                  <a:pt x="11946" y="13791"/>
                </a:cubicBezTo>
                <a:cubicBezTo>
                  <a:pt x="11964" y="13802"/>
                  <a:pt x="11985" y="13811"/>
                  <a:pt x="12025" y="13811"/>
                </a:cubicBezTo>
                <a:cubicBezTo>
                  <a:pt x="12066" y="13811"/>
                  <a:pt x="12068" y="13799"/>
                  <a:pt x="12085" y="13791"/>
                </a:cubicBezTo>
                <a:cubicBezTo>
                  <a:pt x="12142" y="13763"/>
                  <a:pt x="12145" y="13730"/>
                  <a:pt x="12184" y="13692"/>
                </a:cubicBezTo>
                <a:cubicBezTo>
                  <a:pt x="12230" y="13647"/>
                  <a:pt x="12246" y="13602"/>
                  <a:pt x="12283" y="13553"/>
                </a:cubicBezTo>
                <a:cubicBezTo>
                  <a:pt x="12311" y="13515"/>
                  <a:pt x="12346" y="13495"/>
                  <a:pt x="12363" y="13454"/>
                </a:cubicBezTo>
                <a:cubicBezTo>
                  <a:pt x="12372" y="13431"/>
                  <a:pt x="12379" y="13377"/>
                  <a:pt x="12382" y="13355"/>
                </a:cubicBezTo>
                <a:cubicBezTo>
                  <a:pt x="12388" y="13310"/>
                  <a:pt x="12380" y="13262"/>
                  <a:pt x="12382" y="13216"/>
                </a:cubicBezTo>
                <a:cubicBezTo>
                  <a:pt x="12415" y="13220"/>
                  <a:pt x="12429" y="13235"/>
                  <a:pt x="12462" y="13236"/>
                </a:cubicBezTo>
                <a:cubicBezTo>
                  <a:pt x="12530" y="13238"/>
                  <a:pt x="12605" y="13219"/>
                  <a:pt x="12660" y="13216"/>
                </a:cubicBezTo>
                <a:cubicBezTo>
                  <a:pt x="12693" y="13214"/>
                  <a:pt x="12727" y="13220"/>
                  <a:pt x="12760" y="13216"/>
                </a:cubicBezTo>
                <a:cubicBezTo>
                  <a:pt x="12760" y="13376"/>
                  <a:pt x="12726" y="13570"/>
                  <a:pt x="12799" y="13712"/>
                </a:cubicBezTo>
                <a:cubicBezTo>
                  <a:pt x="12813" y="13740"/>
                  <a:pt x="12813" y="13736"/>
                  <a:pt x="12839" y="13752"/>
                </a:cubicBezTo>
                <a:cubicBezTo>
                  <a:pt x="12858" y="13764"/>
                  <a:pt x="12858" y="13767"/>
                  <a:pt x="12898" y="13772"/>
                </a:cubicBezTo>
                <a:cubicBezTo>
                  <a:pt x="12974" y="13782"/>
                  <a:pt x="13045" y="13770"/>
                  <a:pt x="13077" y="13712"/>
                </a:cubicBezTo>
                <a:cubicBezTo>
                  <a:pt x="13116" y="13643"/>
                  <a:pt x="13089" y="13474"/>
                  <a:pt x="13117" y="13395"/>
                </a:cubicBezTo>
                <a:cubicBezTo>
                  <a:pt x="13133" y="13350"/>
                  <a:pt x="13142" y="13317"/>
                  <a:pt x="13176" y="13275"/>
                </a:cubicBezTo>
                <a:cubicBezTo>
                  <a:pt x="13197" y="13248"/>
                  <a:pt x="13218" y="13249"/>
                  <a:pt x="13236" y="13236"/>
                </a:cubicBezTo>
                <a:cubicBezTo>
                  <a:pt x="13271" y="13211"/>
                  <a:pt x="13303" y="13197"/>
                  <a:pt x="13355" y="13176"/>
                </a:cubicBezTo>
                <a:cubicBezTo>
                  <a:pt x="13394" y="13161"/>
                  <a:pt x="13440" y="13152"/>
                  <a:pt x="13474" y="13137"/>
                </a:cubicBezTo>
                <a:cubicBezTo>
                  <a:pt x="13474" y="13117"/>
                  <a:pt x="13474" y="13110"/>
                  <a:pt x="13494" y="13117"/>
                </a:cubicBezTo>
                <a:cubicBezTo>
                  <a:pt x="13490" y="13226"/>
                  <a:pt x="13479" y="13336"/>
                  <a:pt x="13474" y="13434"/>
                </a:cubicBezTo>
                <a:cubicBezTo>
                  <a:pt x="13472" y="13474"/>
                  <a:pt x="13475" y="13513"/>
                  <a:pt x="13474" y="13553"/>
                </a:cubicBezTo>
                <a:cubicBezTo>
                  <a:pt x="13477" y="13546"/>
                  <a:pt x="13487" y="13520"/>
                  <a:pt x="13494" y="13494"/>
                </a:cubicBezTo>
                <a:cubicBezTo>
                  <a:pt x="13509" y="13436"/>
                  <a:pt x="13532" y="13388"/>
                  <a:pt x="13553" y="13335"/>
                </a:cubicBezTo>
                <a:cubicBezTo>
                  <a:pt x="13575" y="13281"/>
                  <a:pt x="13591" y="13222"/>
                  <a:pt x="13633" y="13176"/>
                </a:cubicBezTo>
                <a:cubicBezTo>
                  <a:pt x="13656" y="13152"/>
                  <a:pt x="13649" y="13129"/>
                  <a:pt x="13692" y="13117"/>
                </a:cubicBezTo>
                <a:cubicBezTo>
                  <a:pt x="13748" y="13101"/>
                  <a:pt x="13841" y="13126"/>
                  <a:pt x="13871" y="13176"/>
                </a:cubicBezTo>
                <a:cubicBezTo>
                  <a:pt x="13907" y="13236"/>
                  <a:pt x="13887" y="13308"/>
                  <a:pt x="13891" y="13375"/>
                </a:cubicBezTo>
                <a:cubicBezTo>
                  <a:pt x="13898" y="13493"/>
                  <a:pt x="13882" y="13615"/>
                  <a:pt x="13871" y="13732"/>
                </a:cubicBezTo>
                <a:cubicBezTo>
                  <a:pt x="13860" y="13844"/>
                  <a:pt x="13853" y="13953"/>
                  <a:pt x="13851" y="14069"/>
                </a:cubicBezTo>
                <a:cubicBezTo>
                  <a:pt x="13848" y="14295"/>
                  <a:pt x="13873" y="14519"/>
                  <a:pt x="13891" y="14744"/>
                </a:cubicBezTo>
                <a:cubicBezTo>
                  <a:pt x="13903" y="14901"/>
                  <a:pt x="13919" y="15068"/>
                  <a:pt x="13930" y="15220"/>
                </a:cubicBezTo>
                <a:cubicBezTo>
                  <a:pt x="13932" y="15253"/>
                  <a:pt x="13925" y="15247"/>
                  <a:pt x="13930" y="15280"/>
                </a:cubicBezTo>
                <a:cubicBezTo>
                  <a:pt x="13917" y="15192"/>
                  <a:pt x="13904" y="15110"/>
                  <a:pt x="13891" y="15022"/>
                </a:cubicBezTo>
                <a:cubicBezTo>
                  <a:pt x="13874" y="14907"/>
                  <a:pt x="13873" y="14801"/>
                  <a:pt x="13871" y="14684"/>
                </a:cubicBezTo>
                <a:cubicBezTo>
                  <a:pt x="13870" y="14587"/>
                  <a:pt x="13876" y="14501"/>
                  <a:pt x="13891" y="14407"/>
                </a:cubicBezTo>
                <a:cubicBezTo>
                  <a:pt x="13927" y="14186"/>
                  <a:pt x="14024" y="14033"/>
                  <a:pt x="14109" y="13831"/>
                </a:cubicBezTo>
                <a:cubicBezTo>
                  <a:pt x="14154" y="13724"/>
                  <a:pt x="14192" y="13622"/>
                  <a:pt x="14228" y="13514"/>
                </a:cubicBezTo>
                <a:cubicBezTo>
                  <a:pt x="14247" y="13457"/>
                  <a:pt x="14277" y="13394"/>
                  <a:pt x="14307" y="13335"/>
                </a:cubicBezTo>
                <a:cubicBezTo>
                  <a:pt x="14327" y="13295"/>
                  <a:pt x="14338" y="13249"/>
                  <a:pt x="14367" y="13236"/>
                </a:cubicBezTo>
                <a:cubicBezTo>
                  <a:pt x="14436" y="13205"/>
                  <a:pt x="14653" y="13224"/>
                  <a:pt x="14724" y="13256"/>
                </a:cubicBezTo>
                <a:cubicBezTo>
                  <a:pt x="14766" y="13275"/>
                  <a:pt x="14805" y="13301"/>
                  <a:pt x="14823" y="13335"/>
                </a:cubicBezTo>
                <a:cubicBezTo>
                  <a:pt x="14844" y="13375"/>
                  <a:pt x="14843" y="13383"/>
                  <a:pt x="14843" y="13434"/>
                </a:cubicBezTo>
                <a:cubicBezTo>
                  <a:pt x="14843" y="13511"/>
                  <a:pt x="14833" y="13494"/>
                  <a:pt x="14803" y="13553"/>
                </a:cubicBezTo>
                <a:cubicBezTo>
                  <a:pt x="14779" y="13600"/>
                  <a:pt x="14757" y="13615"/>
                  <a:pt x="14724" y="13652"/>
                </a:cubicBezTo>
                <a:cubicBezTo>
                  <a:pt x="14703" y="13675"/>
                  <a:pt x="14644" y="13750"/>
                  <a:pt x="14605" y="13772"/>
                </a:cubicBezTo>
                <a:cubicBezTo>
                  <a:pt x="14572" y="13791"/>
                  <a:pt x="14535" y="13821"/>
                  <a:pt x="14486" y="13811"/>
                </a:cubicBezTo>
                <a:cubicBezTo>
                  <a:pt x="14432" y="13800"/>
                  <a:pt x="14470" y="13801"/>
                  <a:pt x="14426" y="13772"/>
                </a:cubicBezTo>
                <a:cubicBezTo>
                  <a:pt x="14388" y="13747"/>
                  <a:pt x="14375" y="13708"/>
                  <a:pt x="14347" y="13672"/>
                </a:cubicBezTo>
                <a:cubicBezTo>
                  <a:pt x="14321" y="13637"/>
                  <a:pt x="14303" y="13614"/>
                  <a:pt x="14288" y="13573"/>
                </a:cubicBezTo>
                <a:cubicBezTo>
                  <a:pt x="14276" y="13540"/>
                  <a:pt x="14273" y="13509"/>
                  <a:pt x="14268" y="13474"/>
                </a:cubicBezTo>
                <a:cubicBezTo>
                  <a:pt x="14262" y="13426"/>
                  <a:pt x="14275" y="13394"/>
                  <a:pt x="14288" y="13355"/>
                </a:cubicBezTo>
                <a:cubicBezTo>
                  <a:pt x="14296" y="13331"/>
                  <a:pt x="14304" y="13322"/>
                  <a:pt x="14327" y="13295"/>
                </a:cubicBezTo>
                <a:cubicBezTo>
                  <a:pt x="14344" y="13275"/>
                  <a:pt x="14323" y="13247"/>
                  <a:pt x="14347" y="13236"/>
                </a:cubicBezTo>
                <a:cubicBezTo>
                  <a:pt x="14399" y="13212"/>
                  <a:pt x="14562" y="13229"/>
                  <a:pt x="14605" y="13256"/>
                </a:cubicBezTo>
                <a:cubicBezTo>
                  <a:pt x="14637" y="13276"/>
                  <a:pt x="14657" y="13326"/>
                  <a:pt x="14684" y="13355"/>
                </a:cubicBezTo>
                <a:cubicBezTo>
                  <a:pt x="14724" y="13397"/>
                  <a:pt x="14746" y="13433"/>
                  <a:pt x="14784" y="13474"/>
                </a:cubicBezTo>
                <a:cubicBezTo>
                  <a:pt x="14790" y="13481"/>
                  <a:pt x="14814" y="13526"/>
                  <a:pt x="14823" y="13533"/>
                </a:cubicBezTo>
                <a:cubicBezTo>
                  <a:pt x="14873" y="13569"/>
                  <a:pt x="14931" y="13581"/>
                  <a:pt x="14982" y="13613"/>
                </a:cubicBezTo>
                <a:cubicBezTo>
                  <a:pt x="15015" y="13634"/>
                  <a:pt x="15073" y="13664"/>
                  <a:pt x="15101" y="13692"/>
                </a:cubicBezTo>
                <a:cubicBezTo>
                  <a:pt x="15114" y="13705"/>
                  <a:pt x="15102" y="13744"/>
                  <a:pt x="15121" y="13752"/>
                </a:cubicBezTo>
                <a:cubicBezTo>
                  <a:pt x="15154" y="13765"/>
                  <a:pt x="15144" y="13777"/>
                  <a:pt x="15200" y="13772"/>
                </a:cubicBezTo>
                <a:cubicBezTo>
                  <a:pt x="15258" y="13767"/>
                  <a:pt x="15256" y="13764"/>
                  <a:pt x="15300" y="13732"/>
                </a:cubicBezTo>
                <a:cubicBezTo>
                  <a:pt x="15339" y="13704"/>
                  <a:pt x="15337" y="13672"/>
                  <a:pt x="15359" y="13633"/>
                </a:cubicBezTo>
                <a:cubicBezTo>
                  <a:pt x="15379" y="13597"/>
                  <a:pt x="15412" y="13516"/>
                  <a:pt x="15419" y="13474"/>
                </a:cubicBezTo>
                <a:cubicBezTo>
                  <a:pt x="15434" y="13389"/>
                  <a:pt x="15417" y="13276"/>
                  <a:pt x="15438" y="13216"/>
                </a:cubicBezTo>
                <a:cubicBezTo>
                  <a:pt x="15452" y="13175"/>
                  <a:pt x="15439" y="13162"/>
                  <a:pt x="15458" y="13137"/>
                </a:cubicBezTo>
                <a:cubicBezTo>
                  <a:pt x="15476" y="13113"/>
                  <a:pt x="15556" y="13055"/>
                  <a:pt x="15577" y="13037"/>
                </a:cubicBezTo>
                <a:cubicBezTo>
                  <a:pt x="15595" y="13020"/>
                  <a:pt x="15599" y="13013"/>
                  <a:pt x="15617" y="13018"/>
                </a:cubicBezTo>
                <a:cubicBezTo>
                  <a:pt x="15619" y="13021"/>
                  <a:pt x="15675" y="13054"/>
                  <a:pt x="15677" y="13057"/>
                </a:cubicBezTo>
                <a:cubicBezTo>
                  <a:pt x="15700" y="13104"/>
                  <a:pt x="15699" y="13132"/>
                  <a:pt x="15716" y="13176"/>
                </a:cubicBezTo>
                <a:cubicBezTo>
                  <a:pt x="15731" y="13216"/>
                  <a:pt x="15742" y="13258"/>
                  <a:pt x="15756" y="13295"/>
                </a:cubicBezTo>
                <a:cubicBezTo>
                  <a:pt x="15768" y="13327"/>
                  <a:pt x="15784" y="13359"/>
                  <a:pt x="15796" y="13375"/>
                </a:cubicBezTo>
                <a:cubicBezTo>
                  <a:pt x="15816" y="13402"/>
                  <a:pt x="15810" y="13418"/>
                  <a:pt x="15835" y="13434"/>
                </a:cubicBezTo>
                <a:cubicBezTo>
                  <a:pt x="15862" y="13451"/>
                  <a:pt x="15904" y="13447"/>
                  <a:pt x="15935" y="13454"/>
                </a:cubicBezTo>
                <a:cubicBezTo>
                  <a:pt x="15984" y="13466"/>
                  <a:pt x="16015" y="13470"/>
                  <a:pt x="16073" y="13474"/>
                </a:cubicBezTo>
                <a:cubicBezTo>
                  <a:pt x="16154" y="13480"/>
                  <a:pt x="16236" y="13471"/>
                  <a:pt x="16312" y="13454"/>
                </a:cubicBezTo>
                <a:cubicBezTo>
                  <a:pt x="16377" y="13440"/>
                  <a:pt x="16452" y="13404"/>
                  <a:pt x="16510" y="13395"/>
                </a:cubicBezTo>
                <a:cubicBezTo>
                  <a:pt x="16536" y="13391"/>
                  <a:pt x="16563" y="13399"/>
                  <a:pt x="16589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newsflash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20618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akawee looks like this!!!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254" name="Content Placeholder 3" descr="madan girl.jpg"/>
          <p:cNvPicPr/>
          <p:nvPr/>
        </p:nvPicPr>
        <p:blipFill>
          <a:blip r:embed="rId1"/>
          <a:stretch/>
        </p:blipFill>
        <p:spPr>
          <a:xfrm>
            <a:off x="457200" y="1219320"/>
            <a:ext cx="3675240" cy="449712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729"/>
                </a:solidFill>
                <a:latin typeface="Arial"/>
              </a:rPr>
              <a:t>An unidentified  Mandan Chief</a:t>
            </a:r>
            <a:endParaRPr b="0" lang="en-US" sz="1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7" descr="Spotted_Bull_Mandan"/>
          <p:cNvPicPr/>
          <p:nvPr/>
        </p:nvPicPr>
        <p:blipFill>
          <a:blip r:embed="rId2"/>
          <a:stretch/>
        </p:blipFill>
        <p:spPr>
          <a:xfrm>
            <a:off x="3733920" y="228600"/>
            <a:ext cx="4038480" cy="609588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Mandan Girls harvesting crops</a:t>
            </a:r>
            <a:endParaRPr b="0" lang="en-US" sz="1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7" descr="180px-Mandan_girls_gathering_berries"/>
          <p:cNvPicPr/>
          <p:nvPr/>
        </p:nvPicPr>
        <p:blipFill>
          <a:blip r:embed="rId2"/>
          <a:stretch/>
        </p:blipFill>
        <p:spPr>
          <a:xfrm>
            <a:off x="3048120" y="152280"/>
            <a:ext cx="4805280" cy="63248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The Buffalo Dance!!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5" descr="Print of the Mandan Bison Dance as observed by Karl Bodmer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57200"/>
            <a:ext cx="6782040" cy="5500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 Mandan Villag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5" descr="Painting of a Mandan village by George Catlin. Circa 1833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143000"/>
            <a:ext cx="6473880" cy="45324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9" name="Picture 5" descr="Mandan Chief Ma-to-toh-pe or Four Bears, by George Cat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143000"/>
            <a:ext cx="3754440" cy="541008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Picture 5" descr="Bison-Dance of the Mandan Indians"/>
          <p:cNvPicPr/>
          <p:nvPr/>
        </p:nvPicPr>
        <p:blipFill>
          <a:blip r:embed="rId1"/>
          <a:stretch/>
        </p:blipFill>
        <p:spPr>
          <a:xfrm>
            <a:off x="609480" y="0"/>
            <a:ext cx="6778800" cy="6778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hiefs of the Mandan through the Year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Picture 7" descr="Mató-Tópe (“Four Bears,” Mandan Warrior) - 1834"/>
          <p:cNvPicPr/>
          <p:nvPr/>
        </p:nvPicPr>
        <p:blipFill>
          <a:blip r:embed="rId1"/>
          <a:stretch/>
        </p:blipFill>
        <p:spPr>
          <a:xfrm>
            <a:off x="1295280" y="21337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9" descr="Mató-Tópe (“Four Bears,” Mandan Chief) - 1834"/>
          <p:cNvPicPr/>
          <p:nvPr/>
        </p:nvPicPr>
        <p:blipFill>
          <a:blip r:embed="rId2"/>
          <a:stretch/>
        </p:blipFill>
        <p:spPr>
          <a:xfrm>
            <a:off x="4114800" y="1371600"/>
            <a:ext cx="3676680" cy="367668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11" descr="Charging_Eagle"/>
          <p:cNvPicPr/>
          <p:nvPr/>
        </p:nvPicPr>
        <p:blipFill>
          <a:blip r:embed="rId3"/>
          <a:stretch/>
        </p:blipFill>
        <p:spPr>
          <a:xfrm>
            <a:off x="0" y="2057400"/>
            <a:ext cx="2406600" cy="340524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13" descr="CrowsHeart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895560"/>
            <a:ext cx="2295360" cy="296244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17" descr="Hall_Tex"/>
          <p:cNvPicPr/>
          <p:nvPr/>
        </p:nvPicPr>
        <p:blipFill>
          <a:blip r:embed="rId6"/>
          <a:stretch/>
        </p:blipFill>
        <p:spPr>
          <a:xfrm>
            <a:off x="0" y="4911840"/>
            <a:ext cx="2590920" cy="19461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3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1:08:40Z</dcterms:created>
  <dc:creator>cfarzan1329</dc:creator>
  <dc:description/>
  <dc:language>en-US</dc:language>
  <cp:lastModifiedBy>cfarzan1329</cp:lastModifiedBy>
  <dcterms:modified xsi:type="dcterms:W3CDTF">2008-08-04T21:26:11Z</dcterms:modified>
  <cp:revision>22</cp:revision>
  <dc:subject/>
  <dc:title>PREPARING Lewis and Clark</dc:title>
</cp:coreProperties>
</file>